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57250-281C-4218-930C-AD90BCA70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DCFDB-FE3B-4BDF-BD7E-B66E56604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F14AF-B1A1-4C6B-AED9-61C5D6BE01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585-6E05-42F6-9C20-85E18FE1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175-61C2-4CF0-97F7-1395276A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E38-03F4-4935-8DCB-060E13A8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60D-2B85-41CB-A790-21157937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4DC-2413-45D9-BF3B-C07369DE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B08F-7DEE-474C-A4EC-04F1038C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714F-224B-4A02-9BAC-4048AFFE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C6DC-7CBE-412F-9695-0CEEFB93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D3E-122A-4315-9713-0843C6B5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148-A54B-4D87-ABEF-004156C0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526-585D-49BB-ADB9-FB452FDC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40D-4B8E-4E40-B0C3-E56BACB1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3B6C-2F3B-48B5-BAD8-8E97F2BF2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28600" y="838080"/>
            <a:ext cx="84326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person responsive? Too much time to get back to emails (&gt;1-2 day)? Takes on too much work and does not recognize it is not feasible, and does not communicate it to the team?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aged in team meetings, or always on the side, “surviving” through the class?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the person appear organized? Maintains an agenda, keeps track of tasks in the list, does not lose ideas by taking notes on the fly?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 send the person to another meeting to represent your group?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 hire that person in your team? Would you take off to a conference and leave everything in her/his hands?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591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44520" y="762120"/>
            <a:ext cx="8338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dure is not intended to create “enemies” in the group; first of all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remain anonym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al life, you will start managing work, and probably people, and will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a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se regarding who to trust professionally. This may make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between a successful career and lots of frust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my suggestions for auto grading fall under the category of dele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start managing teams, and/or sharing work load, you will have to r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others. (suggested reading: “Getting things don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do “cartel” and give all As to yourselves, even to those who do not d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, you are off to an unsuccessful work life. You need to be able to say no,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more when the work is not done prope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0:33:20Z</dcterms:created>
  <dc:creator>Riccardo</dc:creator>
  <dc:description/>
  <dc:language>en-US</dc:language>
  <cp:lastModifiedBy>Bevilacqua,Riccardo</cp:lastModifiedBy>
  <dcterms:modified xsi:type="dcterms:W3CDTF">2016-08-14T21:07:14Z</dcterms:modified>
  <cp:revision>13</cp:revision>
  <dc:subject/>
  <dc:title>Presentation Grading (scale of 10)</dc:title>
</cp:coreProperties>
</file>