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A4A67-203E-4AC7-83E8-35D122698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48E9D-5BC7-47DF-A507-FD19E687E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A0E1B-0621-4DD9-B50B-703717EA71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BA643-92AF-432D-80FD-E21666440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318A3-46D2-4E1E-A944-F97A5A1A3B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71D-A00A-4F8F-AE83-E5BB7211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A490-51DC-4F00-9657-536D79ED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472-F846-4C03-94B6-37E99A64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0CE2-14E5-4E6B-A384-CE53C510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D9A-2BEC-46CE-9CC4-4611B130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3B7-EBA2-4A0B-B695-6143190E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7FF-523F-460F-A655-B64EE872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EC0-D802-444B-AE9C-EF2EC812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06B-54C6-4FCF-8E68-47AB6BF0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E5AC-0389-40B6-AEED-F5B6EDD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4E9-9175-4CE7-A979-EEF8AD76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373-461A-44BD-818F-65EB1EE5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AE80-361B-48B1-B44D-EB14DCEC4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ation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68200" y="1219320"/>
            <a:ext cx="84330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2 min / slide, indicative (no grading…but if you get really stuck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0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k to people, not to the projection screen (if you are staring at the screen really too much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some of the slides is fine…unless you read them all!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eye contact with every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, do it…be present, do not talk to your hands or PC or whatever is inanimate  (you really never look at people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ation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8200" y="1488960"/>
            <a:ext cx="843300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8560" indent="-71136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ings readable (no small fonts, small equations, etc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clear, go the point (you wander in no man’s land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speak too fast…and not too slow either...speak loud!!!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E YOURSELF!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0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0:33:20Z</dcterms:created>
  <dc:creator>Riccardo</dc:creator>
  <dc:description/>
  <dc:language>en-US</dc:language>
  <cp:lastModifiedBy>Bevilacqua, Riccardo</cp:lastModifiedBy>
  <dcterms:modified xsi:type="dcterms:W3CDTF">2013-10-15T13:57:08Z</dcterms:modified>
  <cp:revision>21</cp:revision>
  <dc:subject/>
  <dc:title>Presentation Grading (scale of 10)</dc:title>
</cp:coreProperties>
</file>