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B8DAE-9D20-4D1E-AAAB-33F3885F9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8C3AA-B987-42BE-82AD-39E8DFFFA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2B0DE-8B4E-4979-BD3A-DA37E3F477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4511F-0E69-417C-8E2F-E37F16D9A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5768C-FA6F-4043-8F1A-A821EF87C2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B461A-796C-40E4-BFD7-12DE0159A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CAA7D-3BCA-460C-AAF3-E8C5AF1243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13C4D-D21D-4488-901A-EDD16CA1D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3E258-90CE-4947-BFC2-BC9CF31B79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8E9-47F9-40F5-81E9-C46114EF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747-BC58-4F8D-9272-0564A5BF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B5E4-8253-4509-A4C3-60FA5094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BD24-7A57-471C-98A1-89870C4F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155-5B0F-4512-A850-B922C557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887-A4AF-47C7-B463-5ECBE2C3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A87-42A2-4827-8309-515BCED2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D29-E6BB-45EC-859C-9DB1839E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ADE-D4C0-4DCF-9027-F1659CA8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59E-6E82-47D2-80D3-41E51052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64C-CC7D-4FE4-9C90-D3E2697E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716-BD58-4E59-AB4A-E451B7E7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9973-BCBC-4337-86FF-51B82575A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s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68200" y="457200"/>
            <a:ext cx="84330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1074960" indent="-654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tions: as per paper template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INTRO LINK YOUR WORK TO NASA TECH ROADMAPS: http://www.nasa.gov/offices/oct/home/roadmaps/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have no sections numbered, missing some of them, etc.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WAYS number figures, equations, tables, re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deficiency (tables not numbered, figures, eqs.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 ALL of them linkable, i.e. objects that can be cross referenc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do not do 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0.5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figure MUST be referred to into the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wi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reference MUST be referred to into the text. In ascending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wi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1840" indent="-56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s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8200" y="957240"/>
            <a:ext cx="84330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1133280" indent="-68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have an abstract, where a reader can have a quick overview of th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bstrac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figure MUST have a self-explanatory caption and must be 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GETTING units of measurements is EXTREMELY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re engineers, this count a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READABLE axis are EXTREMELY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above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s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68200" y="304920"/>
            <a:ext cx="84330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FY text (it looks nic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s are importa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typo-detection tool (e.g. word cor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many grammar errors or non-sense sentences…it will depend on th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have 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!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, use International System of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the technical content it will be a case by case eval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ME THE EDITABLE FILE, I NEED TO CHECK CROSS-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s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68200" y="304920"/>
            <a:ext cx="84330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agiarism, copy-pasting, non crediting when you extract SHORT parts from other documents IS A SERIOUS BUSINESS, WILL NOT BE TOLERATED, AND MAY RESULT IN FAILURE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0:27:20Z</dcterms:created>
  <dc:creator>Riccardo</dc:creator>
  <dc:description/>
  <dc:language>en-US</dc:language>
  <cp:lastModifiedBy>Bevilacqua,Riccardo</cp:lastModifiedBy>
  <dcterms:modified xsi:type="dcterms:W3CDTF">2016-08-24T19:09:33Z</dcterms:modified>
  <cp:revision>16</cp:revision>
  <dc:subject/>
  <dc:title>Reports Grading (scale of 10)</dc:title>
</cp:coreProperties>
</file>